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5FFD-2B58-4111-AA40-2B94FD2A9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F21F-78A2-4B6C-9A22-3004A503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7DB3-CE63-4EB5-94DF-8C71D469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045B-B839-466C-8BE9-77661D11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A8C92-EFB4-40B3-8AF9-25E1D14A2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99B81-6856-44B7-A6C2-E773D9E16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A9531-5094-44E7-9383-2FEB90290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E119-CF0B-4BC5-BF3C-EB2DF43B5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9681-0148-4E8E-9653-3A50177AC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1926-7EA6-4E31-9E03-996A00DC5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99BB-4F35-428E-8CAE-D3C71506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693D-F362-4343-BC5A-959A13815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BB5BA-05BF-4F73-8A27-B5F3CEC9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7251-9392-4304-9915-EC6DC0D86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36591-54A6-422D-A8FC-083C5E38E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E9AD7-6060-4119-9614-181A36B7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7A9F2-172F-4351-9DA1-A03EDBB8C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F802F-A636-46F2-B50E-827EFFA6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E7657-D9CF-4237-8AE9-0F16A8007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DC9BA-3825-434B-8E7B-5B836CE7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6398A-30A5-4BB5-908E-9DE904C9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3CEC2-69DA-4C00-A995-A9D0299B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652D-8F58-44DF-BD87-5EA0D0624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7DFE8-EE6E-4777-967B-2E7EA2714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C286B-5F0C-4180-94EF-110C36B5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EB182-9BF7-45B0-99EF-3500A03A9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ECA20-F7B3-481D-9CC2-F2780073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2FEB99-504D-4D7C-B6CD-46B1D1C5D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469C8-8CFE-4396-B848-F0250F2F9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FA14E-808A-424B-A183-AC0ABCFB2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F99FF-CB7D-42B3-8BDD-175E7D2AC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08E8B-AB55-474A-B9EA-E8B6AF362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4D9C3-6441-4AF4-BB3D-33B3B826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81A3-B263-4F3B-AA9A-3D5421A2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FEA139-07C2-4F58-8A5B-9105EB561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6113B9-2C86-4BF6-8A25-524E3900B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36467-6A2C-440D-AFF3-A3BBB4FA1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A9DDA-DC57-4429-A511-D593965C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2D93F-7E37-404E-87F6-D47DD53A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32A41-D87E-45D2-A31E-F0C56DF73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A6E98-A6A4-4F65-B3DB-100C16A2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C1736-9E2C-4EE7-82F2-97D12F96E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6622A-8EB6-4A10-9FEF-4E304FFB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4B9D7-C19A-474E-B54D-DB0C9A8E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240D-1E81-40E1-858D-706FB9454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F4B2E-2EC8-442D-94A8-70477AE1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518C5-5F21-45F3-8CF0-EDCE2F80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AAC5F-723A-47C2-8FA9-4BC454DFE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5871A5-7A69-47ED-85E3-164CC26C9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55C96-C340-48CE-ACB5-A23AB259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F3177-FDF4-4569-B8CD-F394C05C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EF741-74E4-41BD-928E-C55061A0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291510-BAF7-441C-817D-B97ACD83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B04D8-0111-4D3E-A616-7238390C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BEB07-70E7-4C6F-9A0A-EF70C6F3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3455-DE5C-456E-88F4-C1E9FD521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D5974-2C0F-4AC9-8EB2-D0EEC5E7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624C-C12C-4964-9A53-8A839389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4888-6E32-44BD-9ACD-197774E4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6CDB-6D14-4C70-B06B-03013524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C456-50FC-46F6-AC95-9DF390B02461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8060-9587-41DB-91BB-FE3A91813571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1333-6EF3-438B-9991-235AEAEB573B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Straight Connector 1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2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715E-94B3-4BD7-BC56-BEA4D514F3F5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1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2A16-49E7-446E-9EB4-69D0801EA953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762120" y="472428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preting Gold Coast Supreme Court Records, SCT 5/4/19: Regina v Quamina Eddoo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63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762120" y="0"/>
            <a:ext cx="7543800" cy="342900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762120" y="228240"/>
            <a:ext cx="723888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 </a:t>
            </a:r>
            <a:r>
              <a:rPr b="0" lang="en-US" sz="8000" spc="-1" strike="noStrike">
                <a:solidFill>
                  <a:srgbClr val="ffffff"/>
                </a:solidFill>
                <a:latin typeface="Impact"/>
              </a:rPr>
              <a:t>Abina Mansah’s world</a:t>
            </a:r>
            <a:endParaRPr b="0" lang="en-US" sz="8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5" name="TextBox 1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d2d2d"/>
                </a:solidFill>
                <a:latin typeface="Impact"/>
              </a:rPr>
              <a:t>What are the difficulties?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Young enslaved women don’t </a:t>
            </a:r>
            <a:r>
              <a:rPr b="0" i="1" lang="en-US" sz="2400" spc="-1" strike="noStrike">
                <a:solidFill>
                  <a:srgbClr val="303030"/>
                </a:solidFill>
                <a:latin typeface="Times New Roman"/>
              </a:rPr>
              <a:t>write 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many documents themselves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In the documents in which enslaved youths appear, they are talked </a:t>
            </a:r>
            <a:r>
              <a:rPr b="0" i="1" lang="en-US" sz="2400" spc="-1" strike="noStrike">
                <a:solidFill>
                  <a:srgbClr val="303030"/>
                </a:solidFill>
                <a:latin typeface="Times New Roman"/>
              </a:rPr>
              <a:t>about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but don’t do much talking themselves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As a result, the voices of enslaved women are </a:t>
            </a:r>
            <a:r>
              <a:rPr b="0" i="1" lang="en-US" sz="2400" spc="-1" strike="noStrike">
                <a:solidFill>
                  <a:srgbClr val="303030"/>
                </a:solidFill>
                <a:latin typeface="Times New Roman"/>
              </a:rPr>
              <a:t>hidden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beneath other, dominant voices, and must be </a:t>
            </a:r>
            <a:r>
              <a:rPr b="0" i="1" lang="en-US" sz="2400" spc="-1" strike="noStrike">
                <a:solidFill>
                  <a:srgbClr val="303030"/>
                </a:solidFill>
                <a:latin typeface="Times New Roman"/>
              </a:rPr>
              <a:t>excavated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3" name="TextBox 3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11000"/>
            <a:ext cx="8229600" cy="88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2d2d"/>
                </a:solidFill>
                <a:latin typeface="Impact"/>
              </a:rPr>
              <a:t>Why is it worth trying to excavate the voices of Africans?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37720" y="22856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Relevance?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Authenticity?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Power relations today?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It’s the historians job?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It increases the accuracy of our studies?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6" name="TextBox 3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2d2d"/>
                </a:solidFill>
                <a:latin typeface="Impact"/>
              </a:rPr>
              <a:t>How can we hear the voices of young enslaved women from the colonial past?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39360" y="1980720"/>
            <a:ext cx="8504280" cy="396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Use new types of sources?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Times New Roman"/>
              </a:rPr>
              <a:t>Oral histories/ oral traditions?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Times New Roman"/>
              </a:rPr>
              <a:t>Archaeology?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Times New Roman"/>
              </a:rPr>
              <a:t>Linguistic analysis (“words and things”)?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Read old documents in a new way?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Times New Roman"/>
              </a:rPr>
              <a:t>That’s what we’re doing with Abina’s testimony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9" name="TextBox 3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2d2d"/>
                </a:solidFill>
                <a:latin typeface="Impact"/>
              </a:rPr>
              <a:t>My strategy for excavating Abina Mansah’s voice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21333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ontextualize! – thick analysis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Understand the top-level voices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Read the document carefully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Make sense of Abina Mansah’s testimony in her own words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2" name="TextBox 3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2d2d"/>
                </a:solidFill>
                <a:latin typeface="Impact"/>
              </a:rPr>
              <a:t>The context</a:t>
            </a:r>
            <a:endParaRPr b="0" lang="en-US" sz="32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lnSpc>
                <a:spcPct val="90000"/>
              </a:lnSpc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03030"/>
                </a:solidFill>
                <a:latin typeface="Times New Roman"/>
              </a:rPr>
              <a:t>Annexation</a:t>
            </a: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 of the Gold Coast Colony and constitution of the Gold Coast Protectorate in 1874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Various British and international groups pressured the Crown to abolish slavery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1874 </a:t>
            </a:r>
            <a:r>
              <a:rPr b="1" lang="en-US" sz="2000" spc="-1" strike="noStrike">
                <a:solidFill>
                  <a:srgbClr val="303030"/>
                </a:solidFill>
                <a:latin typeface="Times New Roman"/>
              </a:rPr>
              <a:t>anti-slavery strategy</a:t>
            </a: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 engineered to satisfy the abolitionist British public while not dislocating the political and economic interests of the indigenous (and often slave-owning) elites on whom their ability to maintain their authority depended. 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Therefore: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Liberation could only be achieved by individuals just leaving or going to court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ad010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Young children, especially girls, could not leave easily, but also found it difficult to go to court. 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lnSpc>
                <a:spcPct val="90000"/>
              </a:lnSpc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5" name="TextBox 3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d2d2d"/>
                </a:solidFill>
                <a:latin typeface="Impact"/>
              </a:rPr>
              <a:t>The magistrates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British, middle class, Christian, abolitionis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Views of children – as dependants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Views of “paternal” </a:t>
            </a:r>
            <a:r>
              <a:rPr b="0" i="1" lang="en-US" sz="2400" spc="-1" strike="noStrike" u="sng">
                <a:solidFill>
                  <a:srgbClr val="303030"/>
                </a:solidFill>
                <a:uFillTx/>
                <a:latin typeface="Times New Roman"/>
              </a:rPr>
              <a:t>authority 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and </a:t>
            </a:r>
            <a:r>
              <a:rPr b="0" i="1" lang="en-US" sz="2400" spc="-1" strike="noStrike" u="sng">
                <a:solidFill>
                  <a:srgbClr val="303030"/>
                </a:solidFill>
                <a:uFillTx/>
                <a:latin typeface="Times New Roman"/>
              </a:rPr>
              <a:t>duty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in Britain and in Gold Coas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e magistrate was (usually) the sole judge and thus the principal audience.  Everyone in the courtroom was performing (and trying to convince) </a:t>
            </a:r>
            <a:r>
              <a:rPr b="0" i="1" lang="en-US" sz="2400" spc="-1" strike="noStrike">
                <a:solidFill>
                  <a:srgbClr val="303030"/>
                </a:solidFill>
                <a:latin typeface="Times New Roman"/>
              </a:rPr>
              <a:t>him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of their point of view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d2d2d"/>
                </a:solidFill>
                <a:latin typeface="Impact"/>
              </a:rPr>
              <a:t>The application of the law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Magistrates determined whether the individual was “enslaved” or “a customary dependant”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1) did any money change hands?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2) was the child </a:t>
            </a:r>
            <a:r>
              <a:rPr b="0" i="1" lang="en-US" sz="2400" spc="-1" strike="noStrike">
                <a:solidFill>
                  <a:srgbClr val="303030"/>
                </a:solidFill>
                <a:latin typeface="Times New Roman"/>
              </a:rPr>
              <a:t>physically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abused?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3) was the child called a slave (such local terms as “odonkwo” or “amperlay”)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4) what sort of labor was the child required to do?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5) did the child receive wages or compensation for labor provided?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1" name="TextBox 3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d2d2d"/>
                </a:solidFill>
                <a:latin typeface="Impact"/>
              </a:rPr>
              <a:t>Other actors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03030"/>
                </a:solidFill>
                <a:latin typeface="Times New Roman"/>
              </a:rPr>
              <a:t>How do they shape or alter testimony and judgments?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Interpreters – In this case the Euro-African James Davis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erks – Usually locals, but in this case the magistrate himself.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Lawyers – James Hutton Brew.  Usually friendly with magistrates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buClr>
                <a:srgbClr val="ac95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Juries – important men, likely to be allies of slave-owners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d2d2d"/>
                </a:solidFill>
                <a:latin typeface="Impact"/>
              </a:rPr>
              <a:t>The “language” of the court</a:t>
            </a:r>
            <a:endParaRPr b="0" lang="en-US" sz="36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buClr>
                <a:srgbClr val="ac956e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e court had a “code” made up of the magistrate’s understanding of the law cultural language in which he could be addressed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buClr>
                <a:srgbClr val="ac956e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ome participants understood this language, others did not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buClr>
                <a:srgbClr val="ac956e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buClr>
                <a:srgbClr val="ac956e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Abina Mansah’s understanding of this language was very low.  This hurt her case, but ironically makes it easier for us to hear her voice!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7" name="TextBox 3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1760" y="4571640"/>
            <a:ext cx="678492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Abina’s story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457200"/>
            <a:ext cx="267336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03030"/>
                </a:solidFill>
                <a:latin typeface="Times New Roman"/>
              </a:rPr>
              <a:t>In 1876, a young, enslaved girl escaped her captivity near the town of Saltpond in what is today Ghana.</a:t>
            </a:r>
            <a:endParaRPr b="0" lang="en-US" sz="21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4267080" y="495360"/>
            <a:ext cx="2984760" cy="4525920"/>
          </a:xfrm>
          <a:prstGeom prst="rect">
            <a:avLst/>
          </a:prstGeom>
          <a:ln w="0">
            <a:noFill/>
          </a:ln>
        </p:spPr>
      </p:pic>
      <p:sp>
        <p:nvSpPr>
          <p:cNvPr id="229" name="TextBox 4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762120" y="457200"/>
            <a:ext cx="267336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03030"/>
                </a:solidFill>
                <a:latin typeface="Times New Roman"/>
              </a:rPr>
              <a:t>Born in Asante, she had been enslaved in several households before Quamina Eddoo’s house near Saltpond, where she worked as a “housegirl”.</a:t>
            </a:r>
            <a:endParaRPr b="0" lang="en-US" sz="21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1"/>
          <a:stretch/>
        </p:blipFill>
        <p:spPr>
          <a:xfrm>
            <a:off x="3962520" y="571680"/>
            <a:ext cx="4038480" cy="54957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3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762120" y="457200"/>
            <a:ext cx="267336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03030"/>
                </a:solidFill>
                <a:latin typeface="Times New Roman"/>
              </a:rPr>
              <a:t>Abina fled to Cape Coast, a British colony where she was –by law –free, and found employment working for a Eurafrican translator named James Davis.</a:t>
            </a:r>
            <a:endParaRPr b="0" lang="en-US" sz="21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4267080" y="457200"/>
            <a:ext cx="3568680" cy="5380200"/>
          </a:xfrm>
          <a:prstGeom prst="rect">
            <a:avLst/>
          </a:prstGeom>
          <a:ln w="0">
            <a:noFill/>
          </a:ln>
        </p:spPr>
      </p:pic>
      <p:sp>
        <p:nvSpPr>
          <p:cNvPr id="235" name="TextBox 3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762120" y="457200"/>
            <a:ext cx="267336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03030"/>
                </a:solidFill>
                <a:latin typeface="Times New Roman"/>
              </a:rPr>
              <a:t>With Davis’ help, she took her former master to court, where she argued that he should be imprisoned based on her experiences as a slave.</a:t>
            </a:r>
            <a:endParaRPr b="0" lang="en-US" sz="21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1"/>
          <a:stretch/>
        </p:blipFill>
        <p:spPr>
          <a:xfrm>
            <a:off x="4691160" y="482760"/>
            <a:ext cx="3335400" cy="5232240"/>
          </a:xfrm>
          <a:prstGeom prst="rect">
            <a:avLst/>
          </a:prstGeom>
          <a:ln w="0">
            <a:noFill/>
          </a:ln>
        </p:spPr>
      </p:pic>
      <p:sp>
        <p:nvSpPr>
          <p:cNvPr id="238" name="TextBox 3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762120" y="457200"/>
            <a:ext cx="267336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03030"/>
                </a:solidFill>
                <a:latin typeface="Times New Roman"/>
              </a:rPr>
              <a:t>Neither the British magistrate nor the jury of local men sided with her, and her former master was exonerated.</a:t>
            </a:r>
            <a:endParaRPr b="0" lang="en-US" sz="21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4267080" y="533520"/>
            <a:ext cx="3570480" cy="5448240"/>
          </a:xfrm>
          <a:prstGeom prst="rect">
            <a:avLst/>
          </a:prstGeom>
          <a:ln w="0">
            <a:noFill/>
          </a:ln>
        </p:spPr>
      </p:pic>
      <p:sp>
        <p:nvSpPr>
          <p:cNvPr id="241" name="TextBox 3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762120" y="457200"/>
            <a:ext cx="267336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03030"/>
                </a:solidFill>
                <a:latin typeface="Times New Roman"/>
              </a:rPr>
              <a:t>Nevertheless, through her testimony we hear the voice of a  young woman who forced the men of the court to here of her experiences, and whose words still convey her perspectives today.</a:t>
            </a:r>
            <a:endParaRPr b="0" lang="en-US" sz="21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4419720" y="609480"/>
            <a:ext cx="3390840" cy="51580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3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1760" y="3276720"/>
            <a:ext cx="7543800" cy="167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EXCAVATING VOICES – 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2120" y="49528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30"/>
                </a:solidFill>
                <a:latin typeface="Times New Roman"/>
              </a:rPr>
              <a:t>methods and ethics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47" name="TextBox 3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54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2d2d"/>
                </a:solidFill>
                <a:latin typeface="Impact"/>
              </a:rPr>
              <a:t>What did it mean to be “colonized”, and how can the victims of history be redeemed?</a:t>
            </a:r>
            <a:endParaRPr b="0" lang="en-US" sz="28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23840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255600">
              <a:buClr>
                <a:srgbClr val="ac956e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olonialism is usually understood as a </a:t>
            </a:r>
            <a:r>
              <a:rPr b="0" i="1" lang="en-US" sz="2400" spc="-1" strike="noStrike">
                <a:solidFill>
                  <a:srgbClr val="303030"/>
                </a:solidFill>
                <a:latin typeface="Times New Roman"/>
              </a:rPr>
              <a:t>system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and as a series of </a:t>
            </a:r>
            <a:r>
              <a:rPr b="0" i="1" lang="en-US" sz="2400" spc="-1" strike="noStrike">
                <a:solidFill>
                  <a:srgbClr val="303030"/>
                </a:solidFill>
                <a:latin typeface="Times New Roman"/>
              </a:rPr>
              <a:t>projects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largely from the view of the colonizers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buClr>
                <a:srgbClr val="ac956e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e perspective of the colonizers is relatively easy to recover because it was the colonizers who wrote most of the documents, choose what went into the archive, etc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buClr>
                <a:srgbClr val="ac956e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But how can we recover the </a:t>
            </a:r>
            <a:r>
              <a:rPr b="0" i="1" lang="en-US" sz="2400" spc="-1" strike="noStrike">
                <a:solidFill>
                  <a:srgbClr val="303030"/>
                </a:solidFill>
                <a:latin typeface="Times New Roman"/>
              </a:rPr>
              <a:t>sub-altern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voice of Africans?  Can formally-trained scholars in a position of relative power do it? Is it possible to do at all?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365040" indent="-255600">
              <a:buClr>
                <a:srgbClr val="ac956e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pecifically, I wanted to aim at recovering the voice of one of the most dispossessed victims of history of all – a young, African womanof servile (or slave) class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50" name="TextBox 4"/>
          <p:cNvSpPr/>
          <p:nvPr/>
        </p:nvSpPr>
        <p:spPr>
          <a:xfrm>
            <a:off x="2160" y="6581880"/>
            <a:ext cx="303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 developed by Trevor R. Get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4T22:11:37Z</dcterms:created>
  <dc:creator>tgetz</dc:creator>
  <dc:description/>
  <dc:language>en-US</dc:language>
  <cp:lastModifiedBy>Trevor Getz</cp:lastModifiedBy>
  <dcterms:modified xsi:type="dcterms:W3CDTF">2023-11-26T00:16:43Z</dcterms:modified>
  <cp:revision>14</cp:revision>
  <dc:subject/>
  <dc:title>Abina Mansah’s world</dc:title>
</cp:coreProperties>
</file>